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F61-D044-464E-843A-499901E6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765-2990-406E-88BB-D3F45E29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B89-8657-4FE7-BECF-C1766996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B5F-FA0F-45C0-9820-35AC7245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53F-9DF3-46A0-B6B7-A9A7B35A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164-DA64-4AEC-B319-61491CC2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D7D-781E-4171-AD7F-A52E7DCD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EDE-BF47-4A8A-8AF5-7365C341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640-EF3E-40A0-9D56-2869B524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ED4-A42C-4BBD-8D61-848D9C96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8C9-2E75-4BAC-BB7F-3D590E43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F7B-40BA-4231-99AF-9B733F33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7A30-FE0B-4F22-B033-21A14926C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www.rbnc.org/images/curriculum/geology/Marble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371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ROCKS WHICH ARE FORMED FROM EXISTING ROCK (SEDIMENTARY, IGNEOUS, METAMORPHIC) BY THE ACTION OF HEAT, PRESSURE, AND CHEMIC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38280" y="304920"/>
            <a:ext cx="3743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tamorphic Rock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91120"/>
            <a:ext cx="80773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METAMORPHISM-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THE PROCESS OF FORMING METAMORPHIC ROCKS WITHIN THE LITHOSPHERE, MAKING THE ROCKS MORE DENSE AND LESS POR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895480"/>
            <a:ext cx="853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ENT R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HE ROCK WHICH BECOMES METAMORPH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133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ENSE AND LESS POROUS THEN THE PARENT ROCK FROM WHICH IT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3716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INTENSE HEAT AND PRESSURE ON THE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35053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RECRYSTALLIZATION- IS THE PROCESS OF INCREASING THE SIZE OF THE MINERAL CRYSTALS AND/OR CHANGING THE MINERAL COMPOSITION WITHOUT MELT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54100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OLIATION- PARALLEL LAYERS OF MINERALS CAUSED BY PRESSURES ON THE ROC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457200"/>
            <a:ext cx="6705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PERTIES OF METAMORPHIC ROCK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00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WHEN LARGE AREAS OF ROCK ARE UNDER INTENSE HEAT AND PRESSURE CAUSING THEM TO CHANGE FORM. (RESULTS IN FOLIATI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352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– THE BUILDING OF MOUNTAIN R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8006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IATION INCREASES AS HEAT AND PRESSURE ARE AD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W-GRADE  ---  HIGH-GR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5120" y="609480"/>
            <a:ext cx="4743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GIONAL METAMORPHIS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late1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703680" cy="2239920"/>
          </a:xfrm>
          <a:prstGeom prst="rect">
            <a:avLst/>
          </a:prstGeom>
          <a:ln w="0">
            <a:noFill/>
          </a:ln>
        </p:spPr>
      </p:pic>
      <p:pic>
        <p:nvPicPr>
          <p:cNvPr id="55" name="Meta07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3801960" cy="2982960"/>
          </a:xfrm>
          <a:prstGeom prst="rect">
            <a:avLst/>
          </a:prstGeom>
          <a:ln w="0">
            <a:noFill/>
          </a:ln>
        </p:spPr>
      </p:pic>
      <p:pic>
        <p:nvPicPr>
          <p:cNvPr id="56" name="Meta05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621240" cy="3065760"/>
          </a:xfrm>
          <a:prstGeom prst="rect">
            <a:avLst/>
          </a:prstGeom>
          <a:ln w="0">
            <a:noFill/>
          </a:ln>
        </p:spPr>
      </p:pic>
      <p:pic>
        <p:nvPicPr>
          <p:cNvPr id="57" name="gneiss2" descr=""/>
          <p:cNvPicPr/>
          <p:nvPr/>
        </p:nvPicPr>
        <p:blipFill>
          <a:blip r:embed="rId4"/>
          <a:stretch/>
        </p:blipFill>
        <p:spPr>
          <a:xfrm>
            <a:off x="4800600" y="3581280"/>
            <a:ext cx="3203640" cy="3095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2971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Y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H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380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NE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562720" y="3733920"/>
            <a:ext cx="16192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AND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24080" y="0"/>
            <a:ext cx="293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LIATED ROCK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295280"/>
            <a:ext cx="2085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W-GRAD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162920" y="5943600"/>
            <a:ext cx="2200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-GRAD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CCURS WHEN HOT MAGMA INTRUDES INTO OVERLYING ROCK AND BAKES THE ROCKS IN CONTACT WITH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4197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HANGE IN THE ROCK IS LESS DRASTIC (NO FOLIA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2004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ESS ROCK IS AFFECTED THEN IN REGI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81080" y="380880"/>
            <a:ext cx="4686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TACT METAMORPHIS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801B1_49-50" descr=""/>
          <p:cNvPicPr/>
          <p:nvPr/>
        </p:nvPicPr>
        <p:blipFill>
          <a:blip r:embed="rId1"/>
          <a:stretch/>
        </p:blipFill>
        <p:spPr>
          <a:xfrm>
            <a:off x="1257480" y="1395360"/>
            <a:ext cx="6629400" cy="4068720"/>
          </a:xfrm>
          <a:prstGeom prst="rect">
            <a:avLst/>
          </a:prstGeom>
          <a:ln w="0">
            <a:noFill/>
          </a:ln>
        </p:spPr>
      </p:pic>
      <p:pic>
        <p:nvPicPr>
          <p:cNvPr id="71" name="Quartzite" descr=""/>
          <p:cNvPicPr/>
          <p:nvPr/>
        </p:nvPicPr>
        <p:blipFill>
          <a:blip r:embed="rId2"/>
          <a:srcRect l="0" t="0" r="33337" b="0"/>
          <a:stretch/>
        </p:blipFill>
        <p:spPr>
          <a:xfrm>
            <a:off x="304920" y="0"/>
            <a:ext cx="2514600" cy="2136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 flipV="1">
            <a:off x="1904760" y="1904760"/>
            <a:ext cx="685800" cy="99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1066680"/>
            <a:ext cx="1871640" cy="2202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477120" y="3048120"/>
            <a:ext cx="83808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hornfels1" descr=""/>
          <p:cNvPicPr/>
          <p:nvPr/>
        </p:nvPicPr>
        <p:blipFill>
          <a:blip r:embed="rId5"/>
          <a:stretch/>
        </p:blipFill>
        <p:spPr>
          <a:xfrm>
            <a:off x="6095880" y="4867200"/>
            <a:ext cx="2324160" cy="1990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29200" y="4648320"/>
            <a:ext cx="1371600" cy="1218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657600" y="30492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N-FOLIATED ROCK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52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RTZ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61722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NF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1:47:31Z</dcterms:created>
  <dc:creator>Joe</dc:creator>
  <dc:description/>
  <dc:language>en-US</dc:language>
  <cp:lastModifiedBy>Lakeland School District</cp:lastModifiedBy>
  <dcterms:modified xsi:type="dcterms:W3CDTF">2004-12-08T13:20:17Z</dcterms:modified>
  <cp:revision>3</cp:revision>
  <dc:subject/>
  <dc:title>PowerPoint Presentation</dc:title>
</cp:coreProperties>
</file>